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C72-1FA7-42AD-8490-A8A38EC4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03BB-595E-442F-95D4-8D05DBC6A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A16-C2FC-41FA-91A4-81E1A77D0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E7E-5F58-4BCF-8E0F-FD4C3E62D5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982C-B609-4E9C-B7BE-50FC63B91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FAC-4F29-46AE-9887-E08FB9B85D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482-D50C-46F1-9457-9560C7176F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5652-8E60-452B-9EFA-2B844FD4D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7B3-FB42-41C5-9784-FB7636C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4DB-F801-4D9A-92B6-7488C55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3CF-DBC0-4CEF-823F-B42A51A2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5F6-10F2-4B46-860B-9DA1B03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3CC-FA81-4E54-909B-F50EF485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55CA-B95E-4C89-9EB8-47A59DE6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233-DA91-4D82-8E52-75F19B0E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CEF-E81B-43CA-B49D-D8132E9A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98CC-4585-4014-8A84-074C107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A57-E563-45B7-902A-972ED59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DA08-A08D-4925-9340-ADC4DCA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8C1-11CB-4AD3-8C73-CD533E63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27FC-DFD5-4500-A91C-4D48617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F75B-914C-4A79-B1B3-EC87374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EE9-3B65-449F-B65A-49E5492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E7F6-02C7-4462-9C4F-819F1D84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38E-EB38-4377-81C0-606351DA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2FA-A6F5-4246-89BF-D4FC9CD5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0B5-1055-466C-A23B-4D7A7123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490-DDBA-4CE7-A289-552056B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0F2-CE38-4BF4-A2DE-F22FFAB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65B-C97B-4284-9BEA-C0EA8BD7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BAE-29B9-4960-9D81-CA87794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D87-6D96-4E36-BED2-4D4FB75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7C0-8900-4E1E-8B1A-601F5439C1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A68-F238-4236-AD26-BE09C4F787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pload.wikimedia.org/wikipedia/commons/d/d3/Statue_of_Liberty%2C_N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a/MG_8998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upload.wikimedia.org/wikipedia/commons/8/80/Eiffel_tower_from_the_neighborhood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upload.wikimedia.org/wikipedia/commons/3/32/Eiffel_tower_and_the_seine_at_night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upload.wikimedia.org/wikipedia/commons/1/16/Truong_Tien_Bridge_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en.wikipedia.org/wiki/Image:Konak_Pier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ndb.com/people/425/000031332/" TargetMode="External"/><Relationship Id="rId2" Type="http://schemas.openxmlformats.org/officeDocument/2006/relationships/hyperlink" Target="http://www.tour-eiffel.fr/teiffel/uk/documentation/dossiers/page/gustave_eiffel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lexandre Gustave Eiffel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4" descr="79860-004-CA89D082"/>
          <p:cNvPicPr/>
          <p:nvPr/>
        </p:nvPicPr>
        <p:blipFill>
          <a:blip r:embed="rId1"/>
          <a:stretch/>
        </p:blipFill>
        <p:spPr>
          <a:xfrm>
            <a:off x="457200" y="1143000"/>
            <a:ext cx="396072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6720" y="12189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Ingénieur de formation, Eiffel a fondé puis développé son entreprise spécialisée dans les charpentes métalliques, dont la Tour Eiffel marque le couronnement, avant de dédier les trente dernières années de sa vie à des activités de recherches expérimentales. Né en 1832 à Dijon, il sort de l'École Centrale des Arts et Manufactures en 1855, l'année même de la première grande Exposition universelle tenue à Pari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nt Maria Pia (Porto)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7" descr="320px-Ponte_Maria_Pia_-_Porto"/>
          <p:cNvPicPr/>
          <p:nvPr/>
        </p:nvPicPr>
        <p:blipFill>
          <a:blip r:embed="rId1"/>
          <a:stretch/>
        </p:blipFill>
        <p:spPr>
          <a:xfrm>
            <a:off x="4038480" y="17524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aramond"/>
              </a:rPr>
              <a:t>Construit entre janvier 1876 et novembre 1877 avec Théophile Seyrig, 353 m de longueur et 160 m de hauteur sur le Dour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838080" y="4038480"/>
            <a:ext cx="2590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905120" y="15238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7086600" y="13716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16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atue de la Libert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ésent de la France aux Etats Unis, elle fut construite à Datigny,  et fut achevée en juillet 188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tatue-of-liberty-ny"/>
          <p:cNvPicPr/>
          <p:nvPr/>
        </p:nvPicPr>
        <p:blipFill>
          <a:blip r:embed="rId1"/>
          <a:stretch/>
        </p:blipFill>
        <p:spPr>
          <a:xfrm>
            <a:off x="380880" y="1447920"/>
            <a:ext cx="3333960" cy="483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mage:Statue of Liberty, N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571840"/>
            <a:ext cx="5257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ur Eiffe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24 mètres de hauteur et  9441 tones de fer,. Son ouvrage le plus connue fue achevée le 31 mars 1889, pour inaugurer l?exposition Universelle de cette année-là, et commémorer le bicenteneire de la Révolution Françai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eiffel-tower-paris"/>
          <p:cNvPicPr/>
          <p:nvPr/>
        </p:nvPicPr>
        <p:blipFill>
          <a:blip r:embed="rId1"/>
          <a:stretch/>
        </p:blipFill>
        <p:spPr>
          <a:xfrm>
            <a:off x="152280" y="1295280"/>
            <a:ext cx="38102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Image:MG 8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eiffel-tower-picture"/>
          <p:cNvPicPr/>
          <p:nvPr/>
        </p:nvPicPr>
        <p:blipFill>
          <a:blip r:embed="rId3"/>
          <a:stretch/>
        </p:blipFill>
        <p:spPr>
          <a:xfrm>
            <a:off x="5477040" y="0"/>
            <a:ext cx="3666960" cy="5143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2743200" y="2971800"/>
            <a:ext cx="4114800" cy="173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nformal Roman"/>
              </a:rPr>
              <a:t>La Tour Eiffel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9" descr="2400-2292~Eiffel-Tower-Posters"/>
          <p:cNvPicPr/>
          <p:nvPr/>
        </p:nvPicPr>
        <p:blipFill>
          <a:blip r:embed="rId4"/>
          <a:stretch/>
        </p:blipFill>
        <p:spPr>
          <a:xfrm>
            <a:off x="0" y="3657600"/>
            <a:ext cx="289548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Image:Eiffel tower from the neighborho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388620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mage:Eiffel tower and the seine at nigh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45720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Viaduc du Garabit (Cantal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2" descr="http://cliophoto.clionautes.org/galleries/GEOGRAPHIE/FRANCE/Centre-Est/Auvergne/garabit.jpg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onte_maria_pia_2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09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Image:Truong Tien Bridge .jpg">
            <a:hlinkClick r:id="rId2"/>
          </p:cNvPr>
          <p:cNvPicPr/>
          <p:nvPr/>
        </p:nvPicPr>
        <p:blipFill>
          <a:blip r:embed="rId3">
            <a:lum bright="16000"/>
          </a:blip>
          <a:stretch/>
        </p:blipFill>
        <p:spPr>
          <a:xfrm>
            <a:off x="0" y="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9520" y="2209320"/>
            <a:ext cx="53341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it aperçu du reste des ouvr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Eiffel a construit de par le monde des centaines d'ouvrages métalliques en tout genre. Si les ponts - et particulièrement les ponts de chemin de fer - ont été son domaine de prédilection, il s'est aussi illustré dans le domaine des charpentes et des installations industrielles. Il a jalonné sa carrière d'une belle série de réalisations, dont se détachent les deux viaducs quasi-jumeaux de Porto et de Garabit dans le Cantal, ainsi que des oeuvres où l'inventivité de l'entreprise a pu davantage se donner libre cours : des ponts "portatifs", vendus en "kit" dans le monde entier, la structure de la statue de la Liberté à New-York, et bien sûr la Tour Eiffel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7" descr="bridges_stone_and_brick"/>
          <p:cNvPicPr/>
          <p:nvPr/>
        </p:nvPicPr>
        <p:blipFill>
          <a:blip r:embed="rId4"/>
          <a:stretch/>
        </p:blipFill>
        <p:spPr>
          <a:xfrm>
            <a:off x="304920" y="2209680"/>
            <a:ext cx="3581280" cy="2954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250px-Konak_P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5105520"/>
            <a:ext cx="350532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ibliographie (anglaise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NNDB tracking the entire worl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June-July 2003. Nov.-Dec. 2008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ttp://www.nndb.com/people/425/000031332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LaTour Eiff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2008. Nov.-Dec.2008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&lt;http://www.toureiffel.fr/teiffel/uk/documentation/dossiers/page/gustave_eiffel.html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 Biography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iography Ba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Nov.-Dec. 2008 &lt;http://www.biographybase.com/biography/eiffel_gustave.html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 Biography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iography Ba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Nov.-Dec. 2008 &lt;http://www.biographybase.com/biography/eiffel_gustave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Facts about the Eiffel Tower, Paris." Buzzle.com Intelligent Life on the Web. 22 Apr. 2007. Nov.-Dec. 2008 &lt;http://www.buzzle.com/articles/facts-about-the-eiffel-tower-paris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ibliograph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Alexandre Gustave Eiffel Man of Architecture and Perfection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From the Desk of..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Nov.-Dec.2008 &lt;http://www.geocities.com/athens/troy/2774/eiffel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Alexandre Gustave Eiffel Man of Architecture and Perfection." From the Desk of... Nov.-Dec. 2008 &lt;http://www.geocities.com/athens/troy/2774/eiffel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7" descr="Buecherwurm"/>
          <p:cNvPicPr/>
          <p:nvPr/>
        </p:nvPicPr>
        <p:blipFill>
          <a:blip r:embed="rId1"/>
          <a:stretch/>
        </p:blipFill>
        <p:spPr>
          <a:xfrm>
            <a:off x="457200" y="4191120"/>
            <a:ext cx="259092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5:09:59Z</dcterms:created>
  <dc:creator>Maisha Bulaya</dc:creator>
  <dc:description/>
  <dc:language>en-US</dc:language>
  <cp:lastModifiedBy>Nicolas</cp:lastModifiedBy>
  <dcterms:modified xsi:type="dcterms:W3CDTF">2011-02-01T21:15:57Z</dcterms:modified>
  <cp:revision>12</cp:revision>
  <dc:subject/>
  <dc:title>Alexandre Gustave Eiffel</dc:title>
</cp:coreProperties>
</file>